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1607-AF22-49DD-A8B2-C51B806A5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228600" y="3875400"/>
            <a:ext cx="8686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5470-ADE1-499A-B1AE-17F27263B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875400"/>
            <a:ext cx="4239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80000" y="3875400"/>
            <a:ext cx="4239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8AE1-0C35-42D4-8317-8E2562578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2796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165840" y="1447560"/>
            <a:ext cx="2796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102720" y="1447560"/>
            <a:ext cx="2796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228600" y="3875400"/>
            <a:ext cx="2796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165840" y="3875400"/>
            <a:ext cx="2796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102720" y="3875400"/>
            <a:ext cx="2796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DBED-6CDA-4816-8882-3D3B17C32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3AAB7-01DA-4108-B384-DE5555790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228600" y="1447560"/>
            <a:ext cx="86868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B1CE6-9DC4-4BFA-ABBB-FDD653689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7A58C-0589-4669-8FAE-AFF5B8988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D8388-0BBB-4E57-8A2D-C8C691285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35063-ACCC-4786-A254-60EB3A447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186ED-213D-4533-BCB5-C69F93C82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228600" y="3875400"/>
            <a:ext cx="4239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1DB19-F46B-48CB-A228-4A24EF53E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228600" y="1447560"/>
            <a:ext cx="86868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A6F6-EB7C-4ADE-B180-CCEDF2466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80000" y="3875400"/>
            <a:ext cx="4239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44688-6225-4370-A6C4-1DC98B27C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228600" y="3875400"/>
            <a:ext cx="8686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5C650-BF6B-4D12-AA74-8AFE2F62E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228600" y="3875400"/>
            <a:ext cx="8686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DBD75-9D55-4C66-A006-8FB985FDC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228600" y="3875400"/>
            <a:ext cx="4239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80000" y="3875400"/>
            <a:ext cx="4239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23402-9AD5-4B6C-ADFD-BFF18C30E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2796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165840" y="1447560"/>
            <a:ext cx="2796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102720" y="1447560"/>
            <a:ext cx="2796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228600" y="3875400"/>
            <a:ext cx="2796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165840" y="3875400"/>
            <a:ext cx="2796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102720" y="3875400"/>
            <a:ext cx="2796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3DCA2-2FE5-4846-B54D-1EBE39F74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E45A-659D-4CE2-81C3-426968422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1C2C-024F-432B-B81D-C2C88FE13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2D56-5ED2-4420-B62A-1C9F903D4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941E-92C3-416B-8A21-BC44FFCB4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228600" y="3875400"/>
            <a:ext cx="4239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7D9C-E198-4B42-B14E-16C1EFA48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80000" y="3875400"/>
            <a:ext cx="4239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4D25-1459-4F7F-8349-C6A8F3DFE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28600" y="3875400"/>
            <a:ext cx="8686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0524-B069-464C-B816-2D2BFFDC9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447560"/>
            <a:ext cx="8686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E016C-F1D7-47B6-B33E-F6499EA5977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" name="" descr=""/>
          <p:cNvPicPr/>
          <p:nvPr/>
        </p:nvPicPr>
        <p:blipFill>
          <a:blip r:embed="rId2"/>
          <a:stretch/>
        </p:blipFill>
        <p:spPr>
          <a:xfrm>
            <a:off x="8305920" y="5943600"/>
            <a:ext cx="647640" cy="647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314A9-9D76-4134-8B1E-957D0EDCD29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1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8496360" y="621036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920" y="1142640"/>
            <a:ext cx="67816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IFI Advisory Group meeting:</a:t>
            </a:r>
            <a:br>
              <a:rPr sz="2800"/>
            </a:b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The Financial crisis – Current view and preparation for Plenary session</a:t>
            </a:r>
            <a:br>
              <a:rPr sz="3600"/>
            </a:b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848880" y="3049200"/>
            <a:ext cx="6248520" cy="33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Economic Crisis: the regional outlook and fiscal space for crisis respo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ernard Funck, World 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russ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ecember 15,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Developments in steel sector illustrate broader challenge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915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obally, steel production is being cut significantly as price of hot rolled steel coil has fallen to almost $400 per ton, from near $1200 earlier in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re of steel industry in exports and employment is sizeable in Macedonia (37% of exports), Serbia (25%), Montenegro and Albania (20%) and BiH (14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bs already being cut in Albania and Macedonia, significant decrease in production announced in Albania, BiH and Macedo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edonia most severely hit: production of metals (11% share in industrial output and employment) fell by 38% y-o-y in Octo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urkey, automotive industry is hurt badly from reduced demand (Turkey is net importer of stee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12189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0" y="2438280"/>
          <a:ext cx="8991720" cy="2716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438280"/>
                    <a:ext cx="8991720" cy="271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"/>
          <p:cNvSpPr/>
          <p:nvPr/>
        </p:nvSpPr>
        <p:spPr>
          <a:xfrm>
            <a:off x="0" y="137160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52280" y="5181480"/>
            <a:ext cx="838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fixed exchange rates in most economies, much of the burden of adjustment on fiscal poli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28600" y="304920"/>
            <a:ext cx="76201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Domestic responses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52280" y="129528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ertia in wage setting following rapid wage growth (real wage growth ranging from 5% per annum in BiH to 12% in Serb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External imbalances may correct only slowly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39625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rp improvement of CAB (as % of GDP) only expected for Montenegr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ss external financing needs (as % of GDP) are expected to increase or remain high in most econom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ll over of corporate (and banking) debt in Turkey adds to uncertainty on external financing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3962520" y="3621240"/>
          <a:ext cx="5181480" cy="2247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2520" y="3621240"/>
                    <a:ext cx="5181480" cy="22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9" name=""/>
          <p:cNvGraphicFramePr/>
          <p:nvPr/>
        </p:nvGraphicFramePr>
        <p:xfrm>
          <a:off x="3962520" y="1600200"/>
          <a:ext cx="5181480" cy="21319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62520" y="1600200"/>
                    <a:ext cx="5181480" cy="213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Conclusion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o respond to the tightening of financial markets, policy makers need to take measur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o maintain prudent fiscal posi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trengthen bank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ountries may seek to shift funding of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existin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plan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rom private sources (including PPPs and lines of cred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o official sources, including IFI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xample: IBRD financing of South Africa’s power development pla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r turn to them for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de facto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debt refinanc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Debt performances are expected to be mixed among the SEE economie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457200" y="1333440"/>
          <a:ext cx="7467480" cy="2952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333440"/>
                    <a:ext cx="7467480" cy="29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457200" y="3581280"/>
          <a:ext cx="7467480" cy="29257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3581280"/>
                    <a:ext cx="7467480" cy="292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Content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cent Economic Developments in SEE and Turke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merging vulnerabilities from the cris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utlook and risks for SEE and Turke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77724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Macroeconomic trends improved in recent years throughout the region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 growth has been healthy: GDP grew by around 5% in 2000-06; growth peaked in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2007, all SEEs and Turkey had either reduced fiscal deficits or moved to surpluses, reflecting greater government commitment to fiscal responsibility (while decreasing tax rat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tween 2003 and 2007, public debt/GDP was cut in all countries except BiH, sometimes substantially (achieved through GDP growth, stronger policy efforts, real appreciation and prepayment of deb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nding pressures have reemerged strongly in 2008 (e.g., Serbia, Macedonia, Turke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8600" y="369720"/>
            <a:ext cx="7772400" cy="8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Key vulnerabilities remain and new imbalances have emerged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ost SEE economies have one or more macroeconomic vulnerabiliti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28600" y="4648320"/>
            <a:ext cx="8686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4419720"/>
            <a:ext cx="86868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urrent account deficits worsened in all economies except BiH (which had high CAD) between 2003 and 2007 (1-3 percentage points in Albania, Croatia, Macedonia, Kosovo and Turkey, 9 pp in Serbia and 33 pp in Montenegro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25909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43434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2362320"/>
            <a:ext cx="9144000" cy="19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Emerging vulnerabilities from the crisis and potential impact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E and Turkey faced with three shocks as a result of the crisis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i) global demand slowdow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ii) drying up of external financ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iii) falling commodity pr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ss remittances (Albania, BiH, Macedonia and Kosovo have substantial remittance inflow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685800" y="1752480"/>
            <a:ext cx="1365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rebuchet MS"/>
                <a:ea typeface="Arial"/>
              </a:rPr>
              <a:t>$ bill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533520" y="2136600"/>
          <a:ext cx="7391160" cy="418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136600"/>
                    <a:ext cx="7391160" cy="418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"/>
          <p:cNvSpPr/>
          <p:nvPr/>
        </p:nvSpPr>
        <p:spPr>
          <a:xfrm>
            <a:off x="2057400" y="1600200"/>
            <a:ext cx="472428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Net private debt and equity flo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990-2007, projected 2008-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772400" y="1752480"/>
            <a:ext cx="831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  <a:ea typeface="Arial"/>
              </a:rPr>
              <a:t>Perc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666880" y="2971800"/>
            <a:ext cx="2097360" cy="58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43080" indent="-3430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ercent of GD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right axi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761760"/>
            <a:ext cx="6845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Private capital flows expected to decline further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38080" y="6408720"/>
            <a:ext cx="312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ource: World Ban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Deteriorating external environment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3581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7e9ce8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pid private credit growth has been to large extent funded by bank-led capital infl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7e9ce8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ries are facing slowdown of inflows and higher interest rates (Croatia’s CDS spread up by over 400 b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7e9ce8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reads of European banks dominating the region also ri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3809880" y="2514600"/>
          <a:ext cx="5334120" cy="251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2514600"/>
                    <a:ext cx="533412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Downward trends are beginning to emerge in most economie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3429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7e9ce8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ctober statistics raise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red flag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for several countries, in particular Croatia, Montenegro, Macedon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28600" y="4572000"/>
            <a:ext cx="8001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struction and tourism sectors may also be hit hard (no data available yet plus effects there come with a time lag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3429000" y="1752480"/>
          <a:ext cx="5715000" cy="2725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9000" y="1752480"/>
                    <a:ext cx="5715000" cy="27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GDP growth is projected to slow down in 2009 throughout SEE…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228600" y="1719360"/>
          <a:ext cx="8686800" cy="4103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719360"/>
                    <a:ext cx="868680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9T22:59:37Z</dcterms:created>
  <dc:creator>Teuta Kacaniku</dc:creator>
  <dc:description/>
  <dc:language>en-US</dc:language>
  <cp:lastModifiedBy>wb296747</cp:lastModifiedBy>
  <dcterms:modified xsi:type="dcterms:W3CDTF">2008-12-15T11:47:26Z</dcterms:modified>
  <cp:revision>8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405763783</vt:r8>
  </property>
  <property fmtid="{D5CDD505-2E9C-101B-9397-08002B2CF9AE}" pid="3" name="_AuthorEmail">
    <vt:lpwstr>Ollivier.Bodin@ec.europa.eu</vt:lpwstr>
  </property>
  <property fmtid="{D5CDD505-2E9C-101B-9397-08002B2CF9AE}" pid="4" name="_AuthorEmailDisplayName">
    <vt:lpwstr>BODIN Ollivier (ELARG)</vt:lpwstr>
  </property>
  <property fmtid="{D5CDD505-2E9C-101B-9397-08002B2CF9AE}" pid="5" name="_EmailSubject">
    <vt:lpwstr>Temporary Webpage IFIAG</vt:lpwstr>
  </property>
  <property fmtid="{D5CDD505-2E9C-101B-9397-08002B2CF9AE}" pid="6" name="_NewReviewCycle">
    <vt:lpwstr/>
  </property>
</Properties>
</file>